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6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1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87320" y="762120"/>
            <a:ext cx="11430000" cy="8204040"/>
          </a:xfrm>
          <a:prstGeom prst="roundRect">
            <a:avLst>
              <a:gd name="adj" fmla="val 926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091880" y="1383840"/>
            <a:ext cx="1082052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680" indent="-41724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0564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23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91880" y="3466800"/>
            <a:ext cx="10820520" cy="283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8381880"/>
            <a:ext cx="9194760" cy="470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904760" y="8788320"/>
            <a:ext cx="9194760" cy="419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rmAutofit fontScale="17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1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2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3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4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5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  <a:p>
            <a:pPr lvl="6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1" i="1" lang="en-US" sz="17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41640" y="2577960"/>
            <a:ext cx="527076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2240" y="1638360"/>
            <a:ext cx="5270400" cy="3238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ffffff"/>
                </a:solidFill>
                <a:latin typeface="Palatino"/>
              </a:rPr>
              <a:t>Click to edit the title text format</a:t>
            </a:r>
            <a:endParaRPr b="1" lang="en-US" sz="59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92240" y="4863600"/>
            <a:ext cx="5270400" cy="3327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Palatino"/>
              </a:rPr>
              <a:t>teaching digital natives </a:t>
            </a:r>
            <a:endParaRPr b="1" lang="en-US" sz="50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hapters 4, 5, &amp; 6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915080" y="2324160"/>
            <a:ext cx="3162240" cy="45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2432160" y="2736720"/>
            <a:ext cx="8134200" cy="61088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7f7f7f"/>
                </a:solidFill>
                <a:latin typeface="Palatino"/>
              </a:rPr>
              <a:t>The Learning Pyramid</a:t>
            </a:r>
            <a:endParaRPr b="1" lang="en-US" sz="5800" spc="-1" strike="noStrike">
              <a:solidFill>
                <a:srgbClr val="7f7f7f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hapter 4:</a:t>
            </a:r>
            <a:br>
              <a:rPr sz="5900"/>
            </a:b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real versus relevant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61840" y="2425680"/>
          <a:ext cx="11277720" cy="6400800"/>
        </p:xfrm>
        <a:graphic>
          <a:graphicData uri="http://schemas.openxmlformats.org/drawingml/2006/table">
            <a:tbl>
              <a:tblPr/>
              <a:tblGrid>
                <a:gridCol w="5638680"/>
                <a:gridCol w="5639040"/>
              </a:tblGrid>
              <a:tr h="676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Relevant is:</a:t>
                      </a:r>
                      <a:endParaRPr b="0" lang="en-US" sz="30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Real is:</a:t>
                      </a:r>
                      <a:endParaRPr b="0" lang="en-US" sz="30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3795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This applies to the environment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Let’s measure Company X’s carbon footprint and help them save money by going green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4173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Let’s read Harry Potter, because it’s ‘the thing’ right now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Read any book that interests you, and use something about it to change your life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5224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Let’s talk about how technology changed the Iranian election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Let’s look at the tweet stream from Iran and send our own tweets over there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40508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This relates to baseball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68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6d6d6d"/>
                          </a:solidFill>
                          <a:latin typeface="Palatino"/>
                          <a:ea typeface="ヒラギノ明朝 ProN W3"/>
                        </a:rPr>
                        <a:t>Did you see in last night’s game when this happened?  Boy what a great illustration of...”</a:t>
                      </a:r>
                      <a:endParaRPr b="0" lang="en-US" sz="2400" spc="-1" strike="noStrike">
                        <a:solidFill>
                          <a:srgbClr val="6d6d6d"/>
                        </a:solidFill>
                        <a:latin typeface="Palatino"/>
                      </a:endParaRPr>
                    </a:p>
                  </a:txBody>
                  <a:tcPr anchor="ctr" marL="50760" marR="50760">
                    <a:lnL w="5760">
                      <a:solidFill>
                        <a:srgbClr val="949694"/>
                      </a:solidFill>
                    </a:lnL>
                    <a:lnR w="5760">
                      <a:solidFill>
                        <a:srgbClr val="949694"/>
                      </a:solidFill>
                    </a:lnR>
                    <a:lnT w="5760">
                      <a:solidFill>
                        <a:srgbClr val="949694"/>
                      </a:solidFill>
                    </a:lnT>
                    <a:lnB w="5760">
                      <a:solidFill>
                        <a:srgbClr val="949694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Ways to make things real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Have students make connections</a:t>
            </a: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 (look for connections online and ask students to do this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nd groups of passions</a:t>
            </a: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 (affinity grouping is based purely on interests without assumptions about intelligence or talent)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onnect students with peers </a:t>
            </a: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(adults work together, ask each other, look things up, and learn from colleagues)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onnect students with practitioners and models in the real world </a:t>
            </a: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(blog, skype, twitter, prerecorded presentations, etc.)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Chapter 4:</a:t>
            </a:r>
            <a:br>
              <a:rPr sz="5900"/>
            </a:b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Planning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d6d6d"/>
                </a:solidFill>
                <a:latin typeface="Palatino"/>
              </a:rPr>
              <a:t>Translating the content of lessons into questions</a:t>
            </a: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 you will ask to guide students to the information and learning they need, without you having to tell it to them is the most important part of partnering planning.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guring out how to make an </a:t>
            </a:r>
            <a:r>
              <a:rPr b="1" lang="en-US" sz="3400" spc="-1" strike="noStrike">
                <a:solidFill>
                  <a:srgbClr val="6d6d6d"/>
                </a:solidFill>
                <a:latin typeface="Palatino"/>
              </a:rPr>
              <a:t>explicit connection to the underlying skills</a:t>
            </a: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 , or verbs, that the students are learning and practicing as they answer the guiding questions and learn the content of the lesson is next most important par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Good Guiding Questions... PBL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Palatino"/>
              </a:rPr>
              <a:t>Ask the following questions:</a:t>
            </a:r>
            <a:endParaRPr b="0" lang="en-US" sz="28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Palatino"/>
              </a:rPr>
              <a:t>Can my students understand the question?</a:t>
            </a:r>
            <a:endParaRPr b="0" lang="en-US" sz="28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Palatino"/>
              </a:rPr>
              <a:t>Are the questions open-ended, and do they require a complex answer?</a:t>
            </a:r>
            <a:endParaRPr b="0" lang="en-US" sz="28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Palatino"/>
              </a:rPr>
              <a:t>Will my students need to learn important content knowledge and a variety of skills and tools to answer the questions?</a:t>
            </a:r>
            <a:endParaRPr b="0" lang="en-US" sz="28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268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d6d6d"/>
                </a:solidFill>
                <a:latin typeface="Palatino"/>
              </a:rPr>
              <a:t>Do the questions allow me to create a local context for the topic(s) being studied and have students solve a real problem?</a:t>
            </a:r>
            <a:endParaRPr b="0" lang="en-US" sz="28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7f7f7f"/>
                </a:solidFill>
                <a:latin typeface="Palatino"/>
              </a:rPr>
              <a:t>Re-thinking and refining your questions...</a:t>
            </a:r>
            <a:endParaRPr b="1" lang="en-US" sz="50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How interesting / motivating will these questions be for my students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How could I make them more so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How can I relate them to my students’ passions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What interesting activities can my students do to answer these questions and to show me they know the answers?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7f7f7f"/>
                </a:solidFill>
                <a:latin typeface="Palatino"/>
              </a:rPr>
              <a:t>Evaluating Guiding Questions</a:t>
            </a: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cd4d"/>
                </a:solidFill>
                <a:latin typeface="Palatino"/>
              </a:rPr>
              <a:t>have multiple solutions and no simple answer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1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cd4d"/>
                </a:solidFill>
                <a:latin typeface="Palatino"/>
              </a:rPr>
              <a:t>have local and global implications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1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cd4d"/>
                </a:solidFill>
                <a:latin typeface="Palatino"/>
              </a:rPr>
              <a:t>have practical results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1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28"/>
                </a:solidFill>
                <a:latin typeface="Palatino"/>
              </a:rPr>
              <a:t>students react by saying, “That’s a good question”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1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28"/>
                </a:solidFill>
                <a:latin typeface="Palatino"/>
              </a:rPr>
              <a:t>they can be adapted to different student interests and passions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1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8e28"/>
                </a:solidFill>
                <a:latin typeface="Palatino"/>
              </a:rPr>
              <a:t>they lead students to real actions that change the world</a:t>
            </a:r>
            <a:endParaRPr b="0" lang="en-US" sz="32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7f7f7f"/>
                </a:solidFill>
                <a:latin typeface="Palatino"/>
              </a:rPr>
              <a:t>focusing on the Verbs</a:t>
            </a:r>
            <a:endParaRPr b="1" lang="en-US" sz="56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research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verify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thinking critically or logically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read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analyz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decision mak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combin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25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d6d6d"/>
                </a:solidFill>
                <a:latin typeface="Palatino"/>
              </a:rPr>
              <a:t>debating</a:t>
            </a:r>
            <a:endParaRPr b="0" lang="en-US" sz="27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f7f7f"/>
                </a:solidFill>
                <a:latin typeface="Palatino"/>
              </a:rPr>
              <a:t>Chapter 6:</a:t>
            </a:r>
            <a:br>
              <a:rPr sz="4100"/>
            </a:br>
            <a:r>
              <a:rPr b="1" lang="en-US" sz="3900" spc="-1" strike="noStrike">
                <a:solidFill>
                  <a:srgbClr val="7f7f7f"/>
                </a:solidFill>
                <a:latin typeface="Palatino"/>
              </a:rPr>
              <a:t>Using Technology in Partnering</a:t>
            </a:r>
            <a:endParaRPr b="1" lang="en-US" sz="3900" spc="-1" strike="noStrike">
              <a:solidFill>
                <a:srgbClr val="7f7f7f"/>
              </a:solidFill>
              <a:latin typeface="Palatino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900" spc="-1" strike="noStrike">
              <a:solidFill>
                <a:srgbClr val="7f7f7f"/>
              </a:solidFill>
              <a:latin typeface="Palatino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e controversial “Prensky Apostasy”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“</a:t>
            </a: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eachers make a PowerPoint and they think they’re so awesome, but it’s just like writing on the board.”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Use the appropriate nouns for the guiding questions and the verbs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Web 2.0, 1:1, Cell Phones, Games...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